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4AE-E08C-4088-8719-639EC581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B37-8C2F-4719-A27C-A01B684F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E3C-6A25-4B27-AA33-DA1D40A7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6AE-6EDB-4AA8-AF59-D2813E78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86A-323D-41F5-84BD-F510442A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992-5A7D-471B-8A9C-E5223307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A6A-FBE3-48B6-A3D6-B6F8F753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472-E830-455D-B896-62108812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1FA-9B5E-4B0A-8E6B-BD6C0560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84D-8776-42EE-914E-3C7FDA58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BD7-96B4-4277-A1EF-55A90EA6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17B-B67B-4ECC-8266-2510F548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386C-BB5D-4D0F-B200-84DE638F43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762120" y="457200"/>
            <a:ext cx="768816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e79"/>
                </a:solidFill>
                <a:latin typeface="Century Gothic"/>
                <a:ea typeface="Century Gothic"/>
              </a:rPr>
              <a:t>The Vow Fac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e79"/>
                </a:solidFill>
                <a:latin typeface="Century Gothic"/>
                <a:ea typeface="Century Gothic"/>
              </a:rPr>
              <a:t>Marriage, Divorce, and Family Formation and their Impact on Health and Well-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776160" y="4487760"/>
            <a:ext cx="768672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3763"/>
                </a:solidFill>
                <a:latin typeface="Century Gothic"/>
                <a:ea typeface="Century Gothic"/>
              </a:rPr>
              <a:t>Moderated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3763"/>
                </a:solidFill>
                <a:latin typeface="Century Gothic"/>
                <a:ea typeface="Century Gothic"/>
              </a:rPr>
              <a:t>Robert Moffitt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763"/>
                </a:solidFill>
                <a:latin typeface="Century Gothic"/>
                <a:ea typeface="Century Gothic"/>
              </a:rPr>
              <a:t>Johns </a:t>
            </a:r>
            <a:r>
              <a:rPr b="0" lang="en-US" sz="2800" spc="-1" strike="noStrike">
                <a:solidFill>
                  <a:srgbClr val="1f4e79"/>
                </a:solidFill>
                <a:latin typeface="Century Gothic"/>
                <a:ea typeface="Century Gothic"/>
              </a:rPr>
              <a:t>Hopkins</a:t>
            </a:r>
            <a:r>
              <a:rPr b="0" lang="en-US" sz="2800" spc="-1" strike="noStrike">
                <a:solidFill>
                  <a:srgbClr val="083763"/>
                </a:solidFill>
                <a:latin typeface="Century Gothic"/>
                <a:ea typeface="Century Gothic"/>
              </a:rPr>
              <a:t>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PAAAPC 2015 Briefing Invite V2_Crop Title_2.jpg"/>
          <p:cNvPicPr/>
          <p:nvPr/>
        </p:nvPicPr>
        <p:blipFill>
          <a:blip r:embed="rId1"/>
          <a:stretch/>
        </p:blipFill>
        <p:spPr>
          <a:xfrm>
            <a:off x="317520" y="2382840"/>
            <a:ext cx="85773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Calibri"/>
              </a:rPr>
              <a:t>Congressional Sponsor &amp; Cospons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A thank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gresswoman Roybal-Allar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her staff for sponsoring this brief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A also thanks our cosponsors for helping to make this event possi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alibri"/>
              </a:rPr>
              <a:t>Alliance for Aging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alibri"/>
              </a:rPr>
              <a:t>American Economic Associ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alibri"/>
              </a:rPr>
              <a:t>American Statistical Associ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alibri"/>
              </a:rPr>
              <a:t>American Sociological Assoc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alibri"/>
              </a:rPr>
              <a:t>Consortium of Social Science Associ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alibri"/>
              </a:rPr>
              <a:t>Gerontological Society of Ame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alibri"/>
              </a:rPr>
              <a:t>Population Reference Bure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alibri"/>
              </a:rPr>
              <a:t>Society for Research in Child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have been the major trends in marriage, cohabitation, and non-marital childbearing in the U.S.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us see: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*Slides courtesy of Wendy Manning, Distinguished Professor, Bowling Green State Univers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1236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1560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6320" y="5724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240" y="6094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763"/>
                </a:solidFill>
                <a:latin typeface="Calibri"/>
              </a:rPr>
              <a:t>Federal agencies support many important surveys with information on marriage, cohabitation, and divorce, inclu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6a3"/>
                </a:solidFill>
                <a:latin typeface="Calibri"/>
              </a:rPr>
              <a:t>Census Burea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merican Community Survey questions on marital histo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6a3"/>
                </a:solidFill>
                <a:latin typeface="Calibri"/>
              </a:rPr>
              <a:t>National Science Found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anel Study of Income Dynamic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6a3"/>
                </a:solidFill>
                <a:latin typeface="Calibri"/>
              </a:rPr>
              <a:t>Bureau of Labor Statistic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ational Longitudinal Study of Yo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6a3"/>
                </a:solidFill>
                <a:latin typeface="Calibri"/>
              </a:rPr>
              <a:t>National Center for Health Statistic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ational Survey of Family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7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6a3"/>
                </a:solidFill>
                <a:latin typeface="Calibri"/>
              </a:rPr>
              <a:t>National Institutes of Heal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and Retirement Surv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gile Families and Child Wellbeing Study (NI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0:17:14Z</dcterms:created>
  <dc:creator>moffitt</dc:creator>
  <dc:description/>
  <dc:language>en-US</dc:language>
  <cp:lastModifiedBy>Francesca Morton</cp:lastModifiedBy>
  <cp:lastPrinted>2013-09-19T18:36:14Z</cp:lastPrinted>
  <dcterms:modified xsi:type="dcterms:W3CDTF">2015-06-03T19:24:54Z</dcterms:modified>
  <cp:revision>337</cp:revision>
  <dc:subject/>
  <dc:title>Slide 1</dc:title>
</cp:coreProperties>
</file>