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CF74-F2E0-4CDC-BB83-6E9B76E6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80B3-5264-4131-A555-EC52FEEC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D4F1-3822-46D5-AE27-BF1E148E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AC7-E983-417E-A645-E9CC4A67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8EBA-9694-4E1C-9CC6-979B03F5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0695-BDCD-4815-BD62-F8416B1B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43E2-EDD3-4CB2-9AD4-B3B804A1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ABB1-33EE-401E-95C2-A634413A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239F-17F4-4DF9-91F1-D50B9907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1F26-8206-4726-8CD0-5C57E18C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4B5D-61FF-4462-870A-39396394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2C18-66EB-4395-9302-FB2A8CB4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94D3-D13F-44F4-ABB2-EBD190BCC55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762120" y="457200"/>
            <a:ext cx="768816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e79"/>
                </a:solidFill>
                <a:latin typeface="Century Gothic"/>
                <a:ea typeface="Century Gothic"/>
              </a:rPr>
              <a:t>The Vow Fac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e79"/>
                </a:solidFill>
                <a:latin typeface="Century Gothic"/>
                <a:ea typeface="Century Gothic"/>
              </a:rPr>
              <a:t>Marriage, Divorce, and Family Formation and their Impact on Health and Well-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776160" y="4487760"/>
            <a:ext cx="768672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3763"/>
                </a:solidFill>
                <a:latin typeface="Century Gothic"/>
                <a:ea typeface="Century Gothic"/>
              </a:rPr>
              <a:t>Moderated 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3763"/>
                </a:solidFill>
                <a:latin typeface="Century Gothic"/>
                <a:ea typeface="Century Gothic"/>
              </a:rPr>
              <a:t>Robert Moffitt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3763"/>
                </a:solidFill>
                <a:latin typeface="Century Gothic"/>
                <a:ea typeface="Century Gothic"/>
              </a:rPr>
              <a:t>Johns </a:t>
            </a:r>
            <a:r>
              <a:rPr b="0" lang="en-US" sz="2800" spc="-1" strike="noStrike">
                <a:solidFill>
                  <a:srgbClr val="1f4e79"/>
                </a:solidFill>
                <a:latin typeface="Century Gothic"/>
                <a:ea typeface="Century Gothic"/>
              </a:rPr>
              <a:t>Hopkins</a:t>
            </a:r>
            <a:r>
              <a:rPr b="0" lang="en-US" sz="2800" spc="-1" strike="noStrike">
                <a:solidFill>
                  <a:srgbClr val="083763"/>
                </a:solidFill>
                <a:latin typeface="Century Gothic"/>
                <a:ea typeface="Century Gothic"/>
              </a:rPr>
              <a:t>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PAAAPC 2015 Briefing Invite V2_Crop Title_2.jpg"/>
          <p:cNvPicPr/>
          <p:nvPr/>
        </p:nvPicPr>
        <p:blipFill>
          <a:blip r:embed="rId1"/>
          <a:stretch/>
        </p:blipFill>
        <p:spPr>
          <a:xfrm>
            <a:off x="317520" y="2382840"/>
            <a:ext cx="85773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a"/>
                </a:solidFill>
                <a:latin typeface="Calibri"/>
              </a:rPr>
              <a:t>Congressional Sponsor &amp; Cospons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A thank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gresswoman Roybal-Allar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her staff for sponsoring this brief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A also thanks our cosponsors for helping to make this event possi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5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Calibri"/>
              </a:rPr>
              <a:t>Alliance for Aging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5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Calibri"/>
              </a:rPr>
              <a:t>American Economic Associ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5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Calibri"/>
              </a:rPr>
              <a:t>American Statistical Associ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5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Calibri"/>
              </a:rPr>
              <a:t>American Sociological Assoc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5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Calibri"/>
              </a:rPr>
              <a:t>Consortium of Social Science Associ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5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Calibri"/>
              </a:rPr>
              <a:t>Gerontological Society of Ame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5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Calibri"/>
              </a:rPr>
              <a:t>Population Reference Burea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5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Calibri"/>
              </a:rPr>
              <a:t>Society for Research in Child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have been the major trends in marriage, cohabitation, and non-marital childbearing in the U.S.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t us see: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*Slides courtesy of Wendy Manning, Distinguished Professor, Bowling Green State Univers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71236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71560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6320" y="57240"/>
            <a:ext cx="89154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8839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8240" y="6094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3763"/>
                </a:solidFill>
                <a:latin typeface="Calibri"/>
              </a:rPr>
              <a:t>Federal agencies support many important surveys with information on marriage, cohabitation, and divorce, includ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76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6a3"/>
                </a:solidFill>
                <a:latin typeface="Calibri"/>
              </a:rPr>
              <a:t>Census Bureau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merican Community Survey questions on marital histor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76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6a3"/>
                </a:solidFill>
                <a:latin typeface="Calibri"/>
              </a:rPr>
              <a:t>National Science Found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anel Study of Income Dynamic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76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6a3"/>
                </a:solidFill>
                <a:latin typeface="Calibri"/>
              </a:rPr>
              <a:t>Bureau of Labor Statistic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National Longitudinal Study of You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76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6a3"/>
                </a:solidFill>
                <a:latin typeface="Calibri"/>
              </a:rPr>
              <a:t>National Center for Health Statistic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National Survey of Family Grow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76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6a3"/>
                </a:solidFill>
                <a:latin typeface="Calibri"/>
              </a:rPr>
              <a:t>National Institutes of Healt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 and Retirement Surv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agile Families and Child Wellbeing Study (NI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0:17:14Z</dcterms:created>
  <dc:creator>moffitt</dc:creator>
  <dc:description/>
  <dc:language>en-US</dc:language>
  <cp:lastModifiedBy>Francesca Morton</cp:lastModifiedBy>
  <cp:lastPrinted>2013-09-19T18:36:14Z</cp:lastPrinted>
  <dcterms:modified xsi:type="dcterms:W3CDTF">2015-06-03T19:24:54Z</dcterms:modified>
  <cp:revision>337</cp:revision>
  <dc:subject/>
  <dc:title>Slide 1</dc:title>
</cp:coreProperties>
</file>